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38F-BD6F-4B56-889E-B4CAEB2B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7EF-6ECF-4868-94FC-DED1897A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3FA-8C99-48C4-B267-22410AD6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885-E9BA-4E15-9766-86B2A92F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51A9-1782-4FC6-AC0B-831BDB77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DE70-B6F9-4708-8BB5-006880D3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57FE-1AC6-411C-857B-2883605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7E5B-B9B1-48C4-9532-B30E9F9B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95D6-2999-47F0-BD93-8491774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6DB5-DDD6-4CC6-977D-A14742C5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F9D2-4A40-4695-80EB-C5199768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0F1-3847-42FD-B09E-ED4F449D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2404-AAB7-49D4-A292-BFACA0A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AAA1-B2B1-4B12-AC80-75ED4A1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C10D-E49A-45FA-8181-8B817B0F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6C71-4DBC-497C-807C-06315062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334D-503E-431C-8895-D311C2D6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9CA-AAA9-4E7A-957B-2C1D885A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8965-4EC6-4756-BA96-1A3A3E52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9B9C-4C3C-4F52-81F9-712EE40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CA2D-5DEC-419E-BEDC-AA17FCF8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6E1-6760-44A8-B7C0-C02DBD6B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B811-0D70-4AD7-B515-4672354E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886BA-100E-427F-A134-6573C8E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6F61-B14D-4E76-BC93-6FEF043A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16CD-A991-4261-B968-65F9DC8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D1E0-D9EA-4BAA-B8AA-E3985B24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2ABE-41AD-43B0-B59D-6E26D05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5835-4B1B-4B02-BFC5-34EBE643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F5B7-4D9A-42D3-8ED4-5803168F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B906-4936-423B-8914-7C2C71F0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825-C9A5-4A39-B131-F4B67C75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B7B-8087-4505-95AF-831421C7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B43-6704-42D9-9433-A2E75E8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88E-8C32-4AF6-9B8A-8CF4CB0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0F0-80F7-44F0-BE42-A0A59F6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m62online.net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97760" y="731880"/>
            <a:ext cx="2489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7600" y="1558440"/>
            <a:ext cx="458136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2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3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4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5" marL="298440" indent="-298440">
              <a:spcBef>
                <a:spcPts val="601"/>
              </a:spcBef>
              <a:buClr>
                <a:srgbClr val="004f7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6" marL="298440" indent="-298440">
              <a:spcBef>
                <a:spcPts val="601"/>
              </a:spcBef>
              <a:buClr>
                <a:srgbClr val="004f7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8993-EF2A-44CE-A584-94CC45C85E49}" type="datetime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EA89-CB72-4554-952E-B5AF54684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34600" y="5734080"/>
            <a:ext cx="307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ec051"/>
                </a:solidFill>
                <a:uFillTx/>
                <a:latin typeface="AvantGarde Bk BT"/>
                <a:hlinkClick r:id="rId3"/>
              </a:rPr>
              <a:t>http://www.m62online.net</a:t>
            </a:r>
            <a:r>
              <a:rPr b="0" lang="en-GB" sz="1800" spc="-1" strike="noStrike">
                <a:solidFill>
                  <a:srgbClr val="004f76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4f76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-1440" y="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0" t="0" r="0" b="12168"/>
          <a:stretch/>
        </p:blipFill>
        <p:spPr>
          <a:xfrm>
            <a:off x="1476360" y="1484280"/>
            <a:ext cx="7077240" cy="4181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18900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vantGarde Bk BT"/>
              </a:rPr>
              <a:t>Using your m62 template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14000" y="6563880"/>
            <a:ext cx="801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65B2-EF68-4D0B-AFB9-99D7C6A3DAEE}" type="datetime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3480" y="6535800"/>
            <a:ext cx="6969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58120" y="6555960"/>
            <a:ext cx="32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A9F8-500D-4296-BD48-9EAB3040049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a2d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5a2d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a2d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60" y="57240"/>
            <a:ext cx="9038880" cy="428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4000" y="6563880"/>
            <a:ext cx="801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542C-7997-43FD-B1DC-CC344CA2AA2B}" type="datetime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1293480" y="6535800"/>
            <a:ext cx="6969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358120" y="6555960"/>
            <a:ext cx="32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DC6E-BBF2-49C0-B3E3-F13857E8FBE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840" y="101520"/>
            <a:ext cx="8181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 Black"/>
              </a:rPr>
              <a:t>Τουρισμός στο Ν. Σερρών: Προοπτικές Ανάπτυξης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743200" y="504324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Ιωάννης Καλογερούδ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Διευθυντής Αναπτυξιακής Εταιρείας Σερρών α.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ΗΜΑΝΤΙΚΕΣ ΠΑΡΑΜΕΤΡ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. Η ύπαρξη εκατοντάδων χιλιάδων απόδημων Σερραίων στην Ελλάδα και το Εξωτερικ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ροσέγγιση του πληθυσμού αυτού μπορεί να βασιστεί σε μια πολιτική που συμπυκνώνεται στο σύνθημ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(Ξανα)γνώρισε τον Τόπο σου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2. Η γειτνίαση του Νομού με το αστικό κέντρο της Θεσσαλονίκης και η μείωση της χρονοαπόστασης από αυτή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. Η αύξηση του βιοτικού επιπέδου των κατοίκων της Ανατολικής Ευρώπης, σε συνδυασμό με τη χρήση του Νομού Σερρών ως πύλη καθόδου προς τη Μεσόγε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51E9-341D-41FD-BAA5-31584F88B0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AD698D0B-D3BC-4BDA-8BF3-4BF10DB48A45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Ι ΝΕΟΙ ΣΤΟΧ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νάδειξ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ων των υποπεριοχών του Νο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ίτευξη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εγεθώ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Στροφή στην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οιό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λοκλήρωσ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τουριστικού προϊόντο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ρίμανσ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επενδυτών - Αυστηρότερα κριτήρ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αφύλαξη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φυσικού τοπ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ιαφοροποίησ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επέκταση υπηρεσι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ύμφωνο ποιότητας –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ή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νεργασ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έκταση περιόδου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θημερινέ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οχευμένη πολιτική σε ομάδε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υψηλών εισοδημά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B6CD-FDF0-4955-9EE3-1CC57E1E8E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D017E939-6B29-4A1F-B3B1-BFAEF6176BD1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ΠΙΛΟΓ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Τουριστική ανάπτυξη δεν αποτελεί πανάκε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οηθά σημαντικά όμως στην αντιμετώπιση των πιέσεων στην ύπαιθρο χώρα και στη μείωση της αστυφιλ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εί νέες θέσεις εργασίας, εξειδικευμένου προσωπικ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 για το Ν. Σερρών ειδικά, σημαντικό παράγοντα απόσβεσης των κραδασμών από την εφαρμογή της νέας Κ.Α.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δυναμώνει τους δεσμούς μεταξύ των τομέων της τοπικής οικονομίας καθιστώντας την τελικά λιγότερο ευάλωτη σε κλυδωνισμού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ποτελεί τελικά μια σημαντικά ευνοϊκή προοπτική για τον τόπο και τους κατοίκους του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37E5-1A3D-4DD7-9A62-A12A870DC6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DAF74993-A194-497C-BF96-86D184D0DC9B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Σας ευχαριστ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B589-468B-4544-8F1D-E9810B9DCA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255357B-5D84-45C7-8778-478B8F0D5250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ΕΝΙ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Ν. Σερρών ως κλασσική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«Εσωτερική Ζώνη»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εμφανίζει όλα τα μειονεκτήματα μιας τέτοιας Ζώνη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έρμετρη εξάρτηση από τον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ωτογενή Τομέ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με συνέπεια την ιδιαίτερη ευαισθησία σε κάθε είδους μεταβολές που αυτός υφίστα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αμηλό επίπεδο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παίδευσης και Κατάρτι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ληθυσ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έτριες Περιβαλλοντικές Πιέ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επαρκής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χαλαρή σύνδεσ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πρωτογενούς με τους άλλους τομείς της οικονομία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κρό δημογραφικό πρόβλημα που εστιάζεται στη γήρανση του πληθυσμού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σήμαντη εκμετάλλευση τη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τρατηγικής θέ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περιοχής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B3F3-2BBB-40B9-920A-32B7608E49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E5223F3-FEC3-4062-8463-01985FC51E4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ΕΝΙ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ην άλλη πλευρά, εντοπίζονται μια σειρά από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υκαιρ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ικανές να εξουδετερώσουν τα μειονεκτήματα και να οδηγήσουν την περιοχή σε τροχιά ανάπτυξ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ιεύρυνση της ΕΕ με την ένταξη των Ανατολικών χωρών, και ο ρόλος της περιοχής 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ύλη εισόδου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ος αυτέ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ταστροφή της τάσης των καταναλωτών γι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αραδοσιακά προϊόν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υψηλής πιστοποιημένης ποιότητ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έες καταναλωτικές τάσεις στον τομέα του τουρισμού: ζήτηση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οιοτικών υπηρεσιώ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αι εναλλακτικών τουριστικών προϊόν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ολικά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υνοϊκό προγραμματικό πλαίσιο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χρηματοδοτικών προγραμμάτων που αφορούν τις ορεινές – μειονεκτικές περιοχέ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ργ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θνικής εμβέλεια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ου αφορούν την περιοχ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BC30-96F2-4F76-8E27-8926A0E78C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03375E64-2F76-4830-8B98-0118CCB4040F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 ΤΟΥΡΙΣΜΟΣ ΩΣ ΑΠΑΝΤΗΣΗ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έσα στο πλαίσιο αυτό οι τουριστικές δραστηριότητες στο Ν. Σερρών εμφανίζονται σαν μι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υνοϊκή προοπτική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αφού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ουσιάζουν μικρό ποσοστό διείσδυσης, αλλά ραγδαίως αυξανόμεν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ισχύουν έντονα τη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ύνδεσ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μεταξύ των τριών τομέων της οικονομ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άγουν ταυτόχρονα την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ναγνωρισιμ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ων τοπικών προϊόν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κμεταλλεύονται τη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τρατηγική θέσ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περιοχ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ούν ευκαιρίες απασχόλησης σε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ξειδικευμένο εργατικό δυναμικ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δημιουργούν γενικά σοβαρές περιβαλλοντικές πιέ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DD57-9497-4B11-BC7B-040C605ACA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4C08A9D-CCA5-422B-B89B-6AF375435B17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ΠΟ ΤΗ ΘΕΩΡΙΑ ΣΤΗΝ ΠΡΑΞ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1996 η ανάλυση που προηγήθηκε φάνταζε ως ουτοπική στην εφαρμογή της στο Νομό Σερ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χρόνια μετά όλοι δεχόμαστε ότι για συγκεκριμένες περιοχές του Νομού Σερρών κάτι τέτοιο είναι εφικτό (π.χ. Κερκίνη, Σπήλαιο Αλιστράτη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φανώς δεν άλλαξε κάτι στη Λίμνη Κερκίνη ή στο Σπήλαιο Αλιστράτης, πέρα από το γεγονός της Ανάδειξης και προβολής 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ίδιο μπορούμε να κάνουμε και στο Λαϊλιά, στο Παγγαίο, στη Βισαλτία για παράδειγ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μερικά στοιχεία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2461-79F4-4FDA-BAF3-1E6C53874D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36BD55FF-AFED-4017-A757-447D763AF000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ΙΣΤΟΡΙΚΟ - ΕΞΕΛΙΞ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200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9 Ξενοδοχεία, 584 δωμάτια, 1151 κλ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2005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22 Ξενοδοχεία, 696 δωμάτια, 1323 κλ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201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0 Ξενοδοχεία, 930 δωμάτια, 1830 κλ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ους αριθμούς αυτού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ε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εριλαμβάνεται το δυναμικό πολλών αγροτουριστικών καταλυμάτων τα οποία δεν χαρακτηρίζονται ως «Ξενοδοχεί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ιπλέον έχουμε θεαματική βελτίωση και στα ποιοτικά χαρακτηριστικά της Ξενοδοχειακής υποδομής του Νο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1002-0E92-4104-805B-FDE7B8BA7C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C80E6469-C7C3-4BC5-88DF-F1E61B0D7CD8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ΙΣΤΟΡΙΚΟ - ΕΞΕΛΙΞ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δείκτης Τουριστικής Ανάπτυξης του Νομού (δηλαδή ο αριθμός κλινών αν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όνιμους κατοίκους) είνα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2000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δεικτικά αναφέρονται για το 2004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αγνησία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4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αλκιδική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ου πρέπει να φθάσουμε λοιπό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A9CE-718F-4A1F-8E07-85BFFC15D5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F497FAA-AAC9-4D80-B374-D4EA43F09FD1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ΤΡΑΤΗΓΙΚΟΙ ΣΤΟΧ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ελτίωση της θέσης της τουριστικής βιομηχανίας (τουριστικού συστήματος) του νομού και αύξηση του μεριδίου της στο σύνολο της Ελληνικής Τουριστικής αγορά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ύξηση της αποκλειστικής απασχόλησης στο στενό τουριστικό τομέα και σύγκλιση του  τουριστικού Α.Ε.Π. στο νομό Σερρών, σε επίπεδο συγκρίσιμο με το μέσο όρο σε επίπεδο χώρ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ίτευξη αειφόρου τουριστικής ανάπτυξης (οικονομική μεγέθυνση με παράλληλη προστασία των μη αναπαραγόμενων φυσικών πόρω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DA6E-B6AC-4679-ACCC-56B6FAB757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987E147-083C-43D4-9DFF-7B8F4B3D15F0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ΩΣ ΕΠΙΤΥΓΧΑΝΟΝΤΑΙ ΑΥΤΟΙ ΟΙ ΣΤΟΧΟ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Ύπαρξη συγκεκριμένου σχεδ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υνατότητα Συγχρηματοδότησης Παρεμβά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ργάνωση δομών και Θεσμικές Παρεμβά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δοχή του Ιδιωτικού Τομέα ως κύριου μοχλού κινητοποί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υαισθητοποίηση του Τοπικού πληθυσ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ινητοποίηση Ιδιωτικών κεφαλα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σχυρή προβολή της εικόνας του Νομού ως τουριστικού προορισ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ίσχυση της εξωστρέφειας του τουριστικού συστή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δειξη όλων των αναξιοποίητων φυσικών, πολιτιστικών και παραγωγικών πόρων της περιοχή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Αναπτυξιακή Εταιρεία Σερρών α.ε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E259-3F72-4E24-9D52-DB75FAE7F8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B9A975E4-01B1-4642-9DF9-D8354F5ECAB9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7:12:40Z</dcterms:created>
  <dc:creator>user</dc:creator>
  <dc:description/>
  <cp:keywords/>
  <dc:language>en-US</dc:language>
  <cp:lastModifiedBy>tzavellas</cp:lastModifiedBy>
  <dcterms:modified xsi:type="dcterms:W3CDTF">2012-09-26T17:02:17Z</dcterms:modified>
  <cp:revision>14</cp:revision>
  <dc:subject/>
  <dc:title>Τουρισμός – Προοπτικές Ανάπτυξη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2318901033</vt:lpwstr>
  </property>
</Properties>
</file>